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1C2A-3E7D-4B57-8CDC-2D86C2B2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F95-0CD6-4BA1-8B87-7DE88A61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04E-B8FB-4C2B-959D-F2BD1662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336-A679-4DA3-BCE1-0C277F2B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CA4C-3276-4BF1-9EDD-CC1A102D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A097-9D25-4D1D-ACB4-E9640461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5F79-AB49-451D-B7DA-0BF36E63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7D24-F5E6-4BFB-82A8-1052F902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90E2-B683-4DBD-8FA1-88F4724C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5CBD-B984-4F56-BBE8-5C62AF89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46B1-F1F8-4BB1-9052-4FB75CC7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429-914F-4465-98E2-F637DF2B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0168-F57A-48A8-B42A-C39F6F24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B993-F5E6-416D-847F-32EB8749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9AFD-06F2-4D39-BD95-686EF265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3D70-1A39-4E07-9264-D103548F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CAE2-9DF9-46F5-A9D1-598837E2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8A8B-A938-44C8-829B-DBE2F2F2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E86-A772-4562-9175-8EE33CFD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575-6AE7-4D58-B480-B67B6D9A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179-91BA-487F-9D22-1E9B71F1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6F1-DE42-4E58-B2BA-2425A414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76C-F39E-471C-8B88-7CB07BDF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6F9-91D0-489E-9064-C4B3AED1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90FD-B2DC-47A7-947B-2B881280379A}" type="datetime">
              <a:rPr b="0" lang="pl-PL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AFE9-E2EC-4FF7-A0AA-5CA8D74B6F9C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80720" y="426960"/>
            <a:ext cx="7161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4C43-729C-4745-8E71-7D399AAC1442}" type="datetime">
              <a:rPr b="0" lang="pl-PL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5914-D982-401F-8DEA-A8486B4DF49A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cc"/>
                </a:solidFill>
                <a:latin typeface="Arial Narrow"/>
              </a:rPr>
              <a:t>Największy wspólny dzielnik dwóch liczb – Algorytm Euklidesa</a:t>
            </a:r>
            <a:br>
              <a:rPr sz="3600"/>
            </a:br>
            <a:r>
              <a:rPr b="1" lang="pl-PL" sz="3600" spc="-1" strike="noStrike">
                <a:solidFill>
                  <a:srgbClr val="ffffcc"/>
                </a:solidFill>
                <a:latin typeface="Arial Narrow"/>
              </a:rPr>
              <a:t>    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428640" y="4572000"/>
            <a:ext cx="5715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nspekt lekcji do zajęć z informatyki dla klasy II gimnazj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ykonała: J. Strocka-Jańs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38088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ALGORYTMIKA I ROZWIĄZYWANIE PROBLEMÓW ZA POMOCĄ KOMPUT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12956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Arial Narrow"/>
              </a:rPr>
              <a:t>Opis: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4343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gdy m = n to NWD(m, n) =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- dopóki m # n i m &gt; n     mam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m:= m – n,  NWD(m, n) =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eukodej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2004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Arial Narrow"/>
              </a:rPr>
              <a:t>Zdobyte kompetencje i umiejętności ucznia: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19160" y="152388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- Formułowanie sytuacji problemowej i określanie specyfikacji proble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- Zapisywanie rozwiązań problemów jako algorytmów w postaci listy kroków i schematów blokowy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- Stosowanie podstawowych konstrukcji algorytmicznych: iteracji i działań warunkowy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- Wykonywanie i testowanie algorytmów za pomocą komput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Arial Narrow"/>
              </a:rPr>
              <a:t>Informacje ogólne: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22093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Arial Narrow"/>
              </a:rPr>
              <a:t>Cele zajęć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- Konstruowanie algorytmów i stosowanie technik algorytmicznych do rozwiązywania problemów z innych przedmiotó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- Umiejętność przedstawiania tych algorytmów z rozgałęzieniami w postaci schematu blokowego i tworzenie ich przy pomocy pr. narzędziow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- Utrwalanie metod sprawdzania poprawności działania algorytm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371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Uczniowie znają już pojęcie algorytmu i specyfikacji zadań. Znają pojęcie iteracji i rekurencji, budują schematy blokowe algorytmó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1080" y="12949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Arial Narrow"/>
              </a:rPr>
              <a:t>Specyfikacja zadania: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520" y="266688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ykorzystując technikę iteracji, należy zbudować algorytm, przy pomocy którego zostanie znaleziony największy wspólny dzielnik dwóch nieujemnych liczb całkowitych: </a:t>
            </a:r>
            <a:r>
              <a:rPr b="0" i="1" lang="pl-PL" sz="2800" spc="-1" strike="noStrike">
                <a:solidFill>
                  <a:srgbClr val="ffffff"/>
                </a:solidFill>
                <a:latin typeface="Arial Narrow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i </a:t>
            </a:r>
            <a:r>
              <a:rPr b="0" i="1" lang="pl-PL" sz="2800" spc="-1" strike="noStrike">
                <a:solidFill>
                  <a:srgbClr val="ffffff"/>
                </a:solidFill>
                <a:latin typeface="Arial Narrow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34290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53352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Arial Narrow"/>
              </a:rPr>
              <a:t>Metody rozwiązania: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Sprawdzenie podzielności danych liczb </a:t>
            </a:r>
            <a:r>
              <a:rPr b="0" i="1" lang="pl-PL" sz="2400" spc="-1" strike="noStrike">
                <a:solidFill>
                  <a:srgbClr val="ffffff"/>
                </a:solidFill>
                <a:latin typeface="Arial Narrow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i </a:t>
            </a:r>
            <a:r>
              <a:rPr b="0" i="1" lang="pl-PL" sz="2400" spc="-1" strike="noStrike">
                <a:solidFill>
                  <a:srgbClr val="ffffff"/>
                </a:solidFill>
                <a:latin typeface="Arial Narrow"/>
              </a:rPr>
              <a:t>n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przez kolejne liczby naturalne, począwszy od 2, a kończąc na najmniejszej z licz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31240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Sprawdzenie czy jedna z liczb dzieli drugą     (wówczas mniejsza to NWD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6880" y="4419720"/>
            <a:ext cx="556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Wykonanie kolejnych odejmowań liczby  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mniejszej od większej (kolejno większą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zastępując otrzymaną różnicą do momentu gdy </a:t>
            </a:r>
            <a:r>
              <a:rPr b="0" i="1" lang="pl-PL" sz="2400" spc="-1" strike="noStrike">
                <a:solidFill>
                  <a:srgbClr val="ffffff"/>
                </a:solidFill>
                <a:latin typeface="Arial Narrow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0" i="1" lang="pl-PL" sz="2400" spc="-1" strike="noStrike">
                <a:solidFill>
                  <a:srgbClr val="ffffff"/>
                </a:solidFill>
                <a:latin typeface="Arial Narrow"/>
              </a:rPr>
              <a:t>n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Arial Narrow"/>
              </a:rPr>
              <a:t>Kolejność działań przy rozwiązywaniu problemu: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21333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zedstawienie algorytmu jako listy kroków oraz  za pomocą schematu blokowe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374976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2. Prezentacja algorytmu w programie ELI (wersja 2.0) i sprawdzenie jego działania dla specjalnych dany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32767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Arial Narrow"/>
              </a:rPr>
              <a:t>Algorytmu Euklidesa z dzieleniem:</a:t>
            </a:r>
            <a:br>
              <a:rPr sz="2800"/>
            </a:b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2" name="sch.blok.z%20dziel" descr=""/>
          <p:cNvPicPr/>
          <p:nvPr/>
        </p:nvPicPr>
        <p:blipFill>
          <a:blip r:embed="rId1"/>
          <a:stretch/>
        </p:blipFill>
        <p:spPr>
          <a:xfrm>
            <a:off x="3200400" y="304920"/>
            <a:ext cx="56196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19814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Arial Narrow"/>
              </a:rPr>
              <a:t>Opis: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4" name="eukdziel" descr=""/>
          <p:cNvPicPr/>
          <p:nvPr/>
        </p:nvPicPr>
        <p:blipFill>
          <a:blip r:embed="rId1"/>
          <a:srcRect l="0" t="10560" r="0" b="0"/>
          <a:stretch/>
        </p:blipFill>
        <p:spPr>
          <a:xfrm>
            <a:off x="5562720" y="1752480"/>
            <a:ext cx="3581280" cy="3940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201760"/>
            <a:ext cx="57150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- gdy </a:t>
            </a:r>
            <a:r>
              <a:rPr b="0" i="1" lang="pl-PL" sz="2400" spc="-1" strike="noStrike">
                <a:solidFill>
                  <a:srgbClr val="ffffff"/>
                </a:solidFill>
                <a:latin typeface="Arial Narrow"/>
              </a:rPr>
              <a:t>m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# 0 i gdy </a:t>
            </a:r>
            <a:r>
              <a:rPr b="0" i="1" lang="pl-PL" sz="2400" spc="-1" strike="noStrike">
                <a:solidFill>
                  <a:srgbClr val="ffffff"/>
                </a:solidFill>
                <a:latin typeface="Arial Narrow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nie dzieli </a:t>
            </a:r>
            <a:r>
              <a:rPr b="0" i="1" lang="pl-PL" sz="2400" spc="-1" strike="noStrike">
                <a:solidFill>
                  <a:srgbClr val="ffffff"/>
                </a:solidFill>
                <a:latin typeface="Arial Narrow"/>
              </a:rPr>
              <a:t>n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(i odwrotnie) to z dzielenia większej przez mniejszą otrzymamy resztę r &gt; 0, ale r mniejszą od liczby mniejszej z tych dwó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n / m, n &gt;= m  mamy 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n = q*m + r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0 &lt;= r &lt;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1. Gdy r = 0, NWD(m, n) = m      ora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2.  Gdy r # 0, r = n – q*m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NWD(m, n) = NWD(r, m),   NWD(0, m) = m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094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- gdy </a:t>
            </a:r>
            <a:r>
              <a:rPr b="0" i="1" lang="pl-PL" sz="2400" spc="-1" strike="noStrike">
                <a:solidFill>
                  <a:srgbClr val="ffffff"/>
                </a:solidFill>
                <a:latin typeface="Arial Narrow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# 0 i </a:t>
            </a:r>
            <a:r>
              <a:rPr b="0" i="1" lang="pl-PL" sz="2400" spc="-1" strike="noStrike">
                <a:solidFill>
                  <a:srgbClr val="ffffff"/>
                </a:solidFill>
                <a:latin typeface="Arial Narrow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dzieli </a:t>
            </a:r>
            <a:r>
              <a:rPr b="0" i="1" lang="pl-PL" sz="2400" spc="-1" strike="noStrike">
                <a:solidFill>
                  <a:srgbClr val="ffffff"/>
                </a:solidFill>
                <a:latin typeface="Arial Narrow"/>
              </a:rPr>
              <a:t>n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(lub odwrotnie) to liczba mniejsza z nich stanowi NWD tych licz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Arial Narrow"/>
              </a:rPr>
              <a:t>Eksperymenty z Algorytmem Euklidesa ( z dzieleniem):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m # 0, m dzieli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Algorytm wykonuje jedną iterację gdy </a:t>
            </a:r>
            <a:r>
              <a:rPr b="0" i="1" lang="pl-PL" sz="2400" spc="-1" strike="noStrike">
                <a:solidFill>
                  <a:srgbClr val="ffffff"/>
                </a:solidFill>
                <a:latin typeface="Arial Narrow"/>
              </a:rPr>
              <a:t>n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jest wielokrotnością </a:t>
            </a:r>
            <a:r>
              <a:rPr b="0" i="1" lang="pl-PL" sz="2400" spc="-1" strike="noStrike">
                <a:solidFill>
                  <a:srgbClr val="ffffff"/>
                </a:solidFill>
                <a:latin typeface="Arial Narrow"/>
              </a:rPr>
              <a:t>m,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czyli gdy</a:t>
            </a:r>
            <a:r>
              <a:rPr b="0" i="1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2400" spc="-1" strike="noStrike">
                <a:solidFill>
                  <a:srgbClr val="ffffff"/>
                </a:solidFill>
                <a:latin typeface="Arial Narrow"/>
              </a:rPr>
              <a:t>n /m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daje 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np. m = 12, n = 36       mamy        NWD(12, 36) =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m # 0, m nie dzieli n (i odwrotnie), n &gt;=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Algorytm wykonuje dwie iteracje gdy </a:t>
            </a:r>
            <a:r>
              <a:rPr b="0" i="1" lang="pl-PL" sz="2400" spc="-1" strike="noStrike">
                <a:solidFill>
                  <a:srgbClr val="ffffff"/>
                </a:solidFill>
                <a:latin typeface="Arial Narrow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jest wielokrotnością reszty z dzielenia</a:t>
            </a:r>
            <a:r>
              <a:rPr b="0" i="1" lang="pl-PL" sz="2400" spc="-1" strike="noStrike">
                <a:solidFill>
                  <a:srgbClr val="ffffff"/>
                </a:solidFill>
                <a:latin typeface="Arial Narrow"/>
              </a:rPr>
              <a:t> n / m,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czyli gdy </a:t>
            </a:r>
            <a:r>
              <a:rPr b="0" i="1" lang="pl-PL" sz="2400" spc="-1" strike="noStrike">
                <a:solidFill>
                  <a:srgbClr val="ffffff"/>
                </a:solidFill>
                <a:latin typeface="Arial Narrow"/>
              </a:rPr>
              <a:t>m / r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daje r = 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np. NWD(4, 10)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10 = 2*4 + 2, {r = 2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4 = 2*2 + 0,   {r = 0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NWD(4, 10) = NWD(2, 4) =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Algorytm wykonuje najwięcej  iteracji, gdy kolejne ilorazy wynoszą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3048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Arial Narrow"/>
              </a:rPr>
              <a:t>Algorytm Euklidesa</a:t>
            </a:r>
            <a:br>
              <a:rPr sz="2800"/>
            </a:br>
            <a:r>
              <a:rPr b="1" lang="pl-PL" sz="2800" spc="-1" strike="noStrike">
                <a:solidFill>
                  <a:srgbClr val="ffffcc"/>
                </a:solidFill>
                <a:latin typeface="Arial Narrow"/>
              </a:rPr>
              <a:t> z odejmowaniem:</a:t>
            </a:r>
            <a:br>
              <a:rPr sz="2800"/>
            </a:b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0" name="sch.blok.z%20odejm." descr=""/>
          <p:cNvPicPr/>
          <p:nvPr/>
        </p:nvPicPr>
        <p:blipFill>
          <a:blip r:embed="rId1"/>
          <a:stretch/>
        </p:blipFill>
        <p:spPr>
          <a:xfrm>
            <a:off x="3048120" y="457200"/>
            <a:ext cx="5862600" cy="599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anna</cp:lastModifiedBy>
  <dcterms:modified xsi:type="dcterms:W3CDTF">2001-11-02T18:03:37Z</dcterms:modified>
  <cp:revision>20</cp:revision>
  <dc:subject/>
  <dc:title>Prezentacja programu PowerPoint</dc:title>
</cp:coreProperties>
</file>